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FFF2-FDA2-4489-99D6-46F6B3251A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F672-52BF-43CA-B2E4-1194E41C4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126D-237E-4153-8438-9EB45DEC6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E2B5-81A9-4250-A8B6-DEC4ABECB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C20-3EF4-4CA6-8916-BD7D03D1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576-0B6A-4A87-BD18-5EF9D2EB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6A6-5F94-4639-A4C3-79E35E05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E64-FBB7-405A-A9D2-84F3BAD8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A602-96D9-43A0-BAFB-0968FC03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EC87-FBFD-4CAB-9D62-FAAFA93A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86C5-0173-4FCA-AE87-E321E11A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DACB-6EB1-4443-B5BA-12831CE9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2379-F557-4425-BEBB-E7D4E885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1B6F-9A55-4D50-BD37-A6B1585F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AC9-9BBF-4B0C-9B56-6CFD6FEC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D57-8139-4A30-8D03-27ACF67E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AF8E-A938-4F6C-97E7-41EB563C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0D91-FEDA-4BA0-A909-A09D9B3E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E90D-25CD-4F99-80D9-D535377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8C28-82DE-461F-96C8-2E4F89CA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DF2C-F7E4-4B8E-8667-A084E7FE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8C73-C6A9-4C5E-9B8F-C09B1B2E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E3B1-DCBB-4C05-9CDE-3554CDA2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7DFC-69A5-41DC-B5FE-28BB4F4A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2C0D-A7A0-4893-9B7E-56AA83DC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7D49-91DC-4EF9-BC6F-FC8FA906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F84-F23B-43C2-8AF3-8E67D700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42B2-53EB-47CA-A23B-76010D86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5C6E-C4DE-4CD6-868A-5A256ACA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7BC0-08E0-4203-B259-20E55842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4282-5523-4635-8D6A-F3B003B0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73B1-87E5-4335-B2FC-75750F94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8814-4DAD-436F-B736-0363764F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388A-AA53-4963-99F7-DAFAB0FC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EB6A9-4B4F-42F4-86F2-AEF666C5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1CF29-4788-4E7C-8D6B-44DC0957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24BA-B84C-4910-BF88-C3DC361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5F5-BFDB-4483-83E5-81B7CA94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D479-F9A4-473B-AFFE-E9BF1ACE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FF9B-0B15-43B6-B3FC-B755F120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C7E9-4707-4B9D-979F-15962CB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1A8DB-818F-4A8B-95AB-7F584232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99CE-29D9-4685-AC53-50C0A0AE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10D9-1FB5-4B28-844F-11851384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689D4-A279-4166-BE7D-10040A71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21CC2-BEEA-45B9-948E-7B8C5049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2420F-1270-4D2A-A9E3-CE6DA477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F554-E27F-4B27-B722-D4F1A2E4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23D-E920-4C22-A16D-37359FB8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20E79-6B45-40CE-B145-B358670D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3D427-68C2-4BA2-97BB-883E64C9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1EA96-F66C-4303-AAA2-119C3C56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DCA2F-B048-48DF-9EB6-DA939FBD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94AD2-B103-4B47-AFC5-24A03B69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C4C65-ECF3-41DA-AA73-102889D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4E079-4A53-432B-AED9-779EEE7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6B4E-F232-4023-818F-53CC2F0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BA3E-4C95-45C4-9CF3-048B81DA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9FF8-CD2B-436B-8C4A-06ACD4C8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CA8-E0C1-4B1E-AF50-C86394A1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F2F5-47C4-44EA-9813-0858A571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57B4F-92FE-41E7-BEFC-6CD55AB8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A6EA4-4D04-4D5D-9651-F4769EA7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1F9DC-A7B0-449D-A7BE-3ACCD192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061FC-6762-4CF4-8416-E6632B33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81712-EF72-460A-A0F8-2417E19F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9EB53-2A7F-461D-9CB8-D4F40A00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0E344-59F0-4A78-A18D-126EC076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41969-5E46-4BD0-AB7E-C835BD7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0B985-A604-40F4-AF66-9ED8B0A9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147-C5EB-4D99-8634-3EAD78BB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F85AF-ECDC-480E-9E7F-362E8A36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1BE50-02F9-4807-9067-A860AA52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EE3BC-A405-4726-8F81-97057A29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6758D-8ACB-4F82-8255-338CC47E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46DB5-A434-45C1-A973-BCA5F805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20582-8C2B-4D05-A503-749ADA47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10F4F-BE08-45B9-B7AA-38E3E4EF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D4FCB-3FFB-4BE1-8CF2-0152C0DF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32B82-A187-4AAD-99AD-096EA651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697D-C164-4C56-BBB5-C9D44628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FD9-4A70-4D6F-94B1-7B5526B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74532-DE3E-49B0-BA9A-C08ECCE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3C5CD-15CB-4711-9E63-952704B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C7691-D8D0-41FF-A219-FE4F01C6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C365F-838A-4D58-98E3-C2D5C175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166AE-5CF5-4FD6-AE1F-5CDA6420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411-A953-43F3-A233-E7A116B2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854F-298E-484F-B7C9-87207748E865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CEEA-B624-4B32-87CD-C560303A24B6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82E1-090E-4E8C-B430-5413FD5DA8D2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76C6-6554-4FBE-A9A4-184E8C55699E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9912-DB76-446A-9F84-B6F6CE52667A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D310-6F6D-4636-89BA-C03901C68B0F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BDFB-4A03-4F48-BF8D-FC6FF9F6CE9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nu.edu.cn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82,16,&#20363;&#65306;&#20010;&#20154;&#35748;&#39046;" TargetMode="External"/><Relationship Id="rId2" Type="http://schemas.openxmlformats.org/officeDocument/2006/relationships/hyperlink" Target="271,20,&#20363;&#65306;&#20010;&#20154;&#26032;&#22686;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72,21,&#24187;&#28783;&#29255; 21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hyperlink" Target="http://www.shnu.edu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17287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上海师范大学科研管理系统（科技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使用指南</a:t>
            </a:r>
            <a:r>
              <a:rPr b="0" lang="en-US" sz="4400" spc="-1" strike="noStrike">
                <a:solidFill>
                  <a:srgbClr val="262626"/>
                </a:solidFill>
                <a:latin typeface="Calibri Light"/>
              </a:rPr>
              <a:t>1.0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1366560"/>
            <a:ext cx="10515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网址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http://kyglkj.shnu.edu.cn</a:t>
            </a: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64520" y="2922480"/>
            <a:ext cx="2494080" cy="2368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打开网址页面后点击“统一身份认证登录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9" name="图片 3" descr=""/>
          <p:cNvPicPr/>
          <p:nvPr/>
        </p:nvPicPr>
        <p:blipFill>
          <a:blip r:embed="rId2"/>
          <a:stretch/>
        </p:blipFill>
        <p:spPr>
          <a:xfrm>
            <a:off x="446040" y="1857240"/>
            <a:ext cx="7950240" cy="4989600"/>
          </a:xfrm>
          <a:prstGeom prst="rect">
            <a:avLst/>
          </a:prstGeom>
          <a:ln w="0">
            <a:noFill/>
          </a:ln>
        </p:spPr>
      </p:pic>
      <p:sp>
        <p:nvSpPr>
          <p:cNvPr id="340" name="矩形 4"/>
          <p:cNvSpPr/>
          <p:nvPr/>
        </p:nvSpPr>
        <p:spPr>
          <a:xfrm>
            <a:off x="5830920" y="4548240"/>
            <a:ext cx="1579680" cy="368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6"/>
          <p:cNvSpPr/>
          <p:nvPr/>
        </p:nvSpPr>
        <p:spPr>
          <a:xfrm flipV="1">
            <a:off x="7410600" y="3544920"/>
            <a:ext cx="1627200" cy="112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76040" y="876240"/>
            <a:ext cx="66308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学校主页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 http://www.shnu.edu.cn</a:t>
            </a: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004240" y="3646440"/>
            <a:ext cx="375264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打开学校主页后通过教师信息门户登录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图片 3" descr=""/>
          <p:cNvPicPr/>
          <p:nvPr/>
        </p:nvPicPr>
        <p:blipFill>
          <a:blip r:embed="rId2"/>
          <a:stretch/>
        </p:blipFill>
        <p:spPr>
          <a:xfrm>
            <a:off x="689040" y="1998720"/>
            <a:ext cx="6637320" cy="4730760"/>
          </a:xfrm>
          <a:prstGeom prst="rect">
            <a:avLst/>
          </a:prstGeom>
          <a:ln w="0">
            <a:noFill/>
          </a:ln>
        </p:spPr>
      </p:pic>
      <p:sp>
        <p:nvSpPr>
          <p:cNvPr id="345" name="矩形 4"/>
          <p:cNvSpPr/>
          <p:nvPr/>
        </p:nvSpPr>
        <p:spPr>
          <a:xfrm>
            <a:off x="6113520" y="2975040"/>
            <a:ext cx="1138320" cy="6541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6"/>
          <p:cNvSpPr/>
          <p:nvPr/>
        </p:nvSpPr>
        <p:spPr>
          <a:xfrm>
            <a:off x="7242120" y="3301920"/>
            <a:ext cx="881280" cy="34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091200" y="2166480"/>
            <a:ext cx="2874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后在个人信息门户页面左下角“各类业务系统”中选择“科研管理系统（科技）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图片 3" descr=""/>
          <p:cNvPicPr/>
          <p:nvPr/>
        </p:nvPicPr>
        <p:blipFill>
          <a:blip r:embed="rId1"/>
          <a:stretch/>
        </p:blipFill>
        <p:spPr>
          <a:xfrm>
            <a:off x="114480" y="2065320"/>
            <a:ext cx="5715000" cy="37530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" descr=""/>
          <p:cNvPicPr/>
          <p:nvPr/>
        </p:nvPicPr>
        <p:blipFill>
          <a:blip r:embed="rId2"/>
          <a:stretch/>
        </p:blipFill>
        <p:spPr>
          <a:xfrm>
            <a:off x="9344160" y="2405160"/>
            <a:ext cx="2266920" cy="2962080"/>
          </a:xfrm>
          <a:prstGeom prst="rect">
            <a:avLst/>
          </a:prstGeom>
          <a:ln w="0">
            <a:noFill/>
          </a:ln>
        </p:spPr>
      </p:pic>
      <p:cxnSp>
        <p:nvCxnSpPr>
          <p:cNvPr id="350" name="直接箭头连接符 6"/>
          <p:cNvCxnSpPr/>
          <p:nvPr/>
        </p:nvCxnSpPr>
        <p:spPr>
          <a:xfrm>
            <a:off x="5829480" y="3885840"/>
            <a:ext cx="335016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1" name="矩形 7"/>
          <p:cNvSpPr/>
          <p:nvPr/>
        </p:nvSpPr>
        <p:spPr>
          <a:xfrm>
            <a:off x="9344160" y="4572000"/>
            <a:ext cx="1438200" cy="2142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587720" y="2327040"/>
            <a:ext cx="3567240" cy="2957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系统后可查看系统通知公告、个人资料、个人科研信息等内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3" name="图片 3" descr=""/>
          <p:cNvPicPr/>
          <p:nvPr/>
        </p:nvPicPr>
        <p:blipFill>
          <a:blip r:embed="rId1"/>
          <a:stretch/>
        </p:blipFill>
        <p:spPr>
          <a:xfrm>
            <a:off x="474840" y="762120"/>
            <a:ext cx="66499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189240" y="2404800"/>
            <a:ext cx="708336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教师个人根据自己的科研情况，如实填报相关内容和信息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系统使用中存在的问题或意见可邮件至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5" name="图片 3" descr=""/>
          <p:cNvPicPr/>
          <p:nvPr/>
        </p:nvPicPr>
        <p:blipFill>
          <a:blip r:embed="rId1"/>
          <a:stretch/>
        </p:blipFill>
        <p:spPr>
          <a:xfrm>
            <a:off x="928800" y="1116000"/>
            <a:ext cx="1755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700360" y="2604600"/>
            <a:ext cx="59688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个人认领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个人新增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1249200" y="297000"/>
            <a:ext cx="1005840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认领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电子菜单“科研成果”，随后选择子菜单“论文成果”，即出现如图所示页面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列表中会出现近年来教师个人的论文情况，点击“编辑”可对文章进行修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图片 2" descr=""/>
          <p:cNvPicPr/>
          <p:nvPr/>
        </p:nvPicPr>
        <p:blipFill>
          <a:blip r:embed="rId1"/>
          <a:stretch/>
        </p:blipFill>
        <p:spPr>
          <a:xfrm>
            <a:off x="0" y="3025800"/>
            <a:ext cx="12106440" cy="5686560"/>
          </a:xfrm>
          <a:prstGeom prst="rect">
            <a:avLst/>
          </a:prstGeom>
          <a:ln w="0">
            <a:noFill/>
          </a:ln>
        </p:spPr>
      </p:pic>
      <p:sp>
        <p:nvSpPr>
          <p:cNvPr id="361" name="矩形 3"/>
          <p:cNvSpPr/>
          <p:nvPr/>
        </p:nvSpPr>
        <p:spPr>
          <a:xfrm>
            <a:off x="10794960" y="4037040"/>
            <a:ext cx="509760" cy="3207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5"/>
          <p:cNvSpPr/>
          <p:nvPr/>
        </p:nvSpPr>
        <p:spPr>
          <a:xfrm>
            <a:off x="0" y="4759200"/>
            <a:ext cx="1096920" cy="478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4" name="内容占位符 2" descr=""/>
          <p:cNvPicPr/>
          <p:nvPr/>
        </p:nvPicPr>
        <p:blipFill>
          <a:blip r:embed="rId1"/>
          <a:stretch/>
        </p:blipFill>
        <p:spPr>
          <a:xfrm>
            <a:off x="4476600" y="2084400"/>
            <a:ext cx="7445520" cy="5337000"/>
          </a:xfrm>
          <a:prstGeom prst="rect">
            <a:avLst/>
          </a:prstGeom>
          <a:ln w="0">
            <a:noFill/>
          </a:ln>
        </p:spPr>
      </p:pic>
      <p:sp>
        <p:nvSpPr>
          <p:cNvPr id="365" name="矩形 4"/>
          <p:cNvSpPr/>
          <p:nvPr/>
        </p:nvSpPr>
        <p:spPr>
          <a:xfrm>
            <a:off x="8467560" y="3726000"/>
            <a:ext cx="3051360" cy="477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177840" y="1900080"/>
            <a:ext cx="40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随后教师根据实际情况对论文进行详细信息填写和修改，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需要注意的是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“发表刊物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论文集”务必采用输入方式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勿使用复制黏贴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，后与数据库中的刊物进行匹配选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系统导入时将历年获奖名单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奖金领取者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作为第一作者，但教师个人修改时应根据实际情况进行调整，可选择左上角“论文作者”标签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图片 6" descr=""/>
          <p:cNvPicPr/>
          <p:nvPr/>
        </p:nvPicPr>
        <p:blipFill>
          <a:blip r:embed="rId2"/>
          <a:stretch/>
        </p:blipFill>
        <p:spPr>
          <a:xfrm>
            <a:off x="281160" y="5030640"/>
            <a:ext cx="3981240" cy="2390760"/>
          </a:xfrm>
          <a:prstGeom prst="rect">
            <a:avLst/>
          </a:prstGeom>
          <a:ln w="0">
            <a:noFill/>
          </a:ln>
        </p:spPr>
      </p:pic>
      <p:sp>
        <p:nvSpPr>
          <p:cNvPr id="368" name="矩形 9"/>
          <p:cNvSpPr/>
          <p:nvPr/>
        </p:nvSpPr>
        <p:spPr>
          <a:xfrm>
            <a:off x="4390920" y="2166840"/>
            <a:ext cx="3052800" cy="479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10"/>
          <p:cNvSpPr/>
          <p:nvPr/>
        </p:nvSpPr>
        <p:spPr>
          <a:xfrm>
            <a:off x="4600440" y="3605040"/>
            <a:ext cx="3051360" cy="2383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8"/>
          <p:cNvSpPr/>
          <p:nvPr/>
        </p:nvSpPr>
        <p:spPr>
          <a:xfrm>
            <a:off x="1319040" y="5030640"/>
            <a:ext cx="3051360" cy="25336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其他注意事项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73000" y="2440080"/>
            <a:ext cx="845172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由于系统设置原因，认领的论文在导入时，如果标题过长，论文题目会出现“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…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”字符缺失情况，请个人在认领论文时将题目补充完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发表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/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出版时间”为系统根据年份所默认，请个人在认领论文时修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论文认领时，请将</a:t>
            </a:r>
            <a:r>
              <a:rPr b="1" lang="zh-CN" sz="2000" spc="-1" strike="noStrike">
                <a:solidFill>
                  <a:srgbClr val="404040"/>
                </a:solidFill>
                <a:latin typeface="Calibri"/>
              </a:rPr>
              <a:t>所有信息补充完整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方可保存，并送至审核。</a:t>
            </a:r>
            <a:r>
              <a:rPr b="0" lang="zh-CN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（操作步骤参照：个人新增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不在“论文成果”列表内的论文可通过“论文新增”方式添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数据导入过程中可能存在信息错误可自行修改调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新增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806400" y="3508200"/>
            <a:ext cx="10326600" cy="2675160"/>
          </a:xfrm>
          <a:prstGeom prst="rect">
            <a:avLst/>
          </a:prstGeom>
          <a:ln w="0">
            <a:noFill/>
          </a:ln>
        </p:spPr>
      </p:pic>
      <p:sp>
        <p:nvSpPr>
          <p:cNvPr id="375" name="矩形 4"/>
          <p:cNvSpPr/>
          <p:nvPr/>
        </p:nvSpPr>
        <p:spPr>
          <a:xfrm>
            <a:off x="1365120" y="21607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子菜单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科研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论文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进入论文列表，通过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新增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进入论文新增，填写论文信息页面，单击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，完成论文的新增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bri Light"/>
              </a:rPr>
              <a:t>目录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426760" y="2440080"/>
            <a:ext cx="58611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一、系统填报范围及流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二、系统环境要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三、数据填报演示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88760" y="2487240"/>
            <a:ext cx="209700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填写论文信息页面，单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，完成论文的新增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1"/>
          <a:stretch/>
        </p:blipFill>
        <p:spPr>
          <a:xfrm>
            <a:off x="3308400" y="1622520"/>
            <a:ext cx="78469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9" descr=""/>
          <p:cNvPicPr/>
          <p:nvPr/>
        </p:nvPicPr>
        <p:blipFill>
          <a:blip r:embed="rId1"/>
          <a:stretch/>
        </p:blipFill>
        <p:spPr>
          <a:xfrm>
            <a:off x="1096920" y="3222720"/>
            <a:ext cx="9861480" cy="2754360"/>
          </a:xfrm>
          <a:prstGeom prst="rect">
            <a:avLst/>
          </a:prstGeom>
          <a:ln w="0">
            <a:noFill/>
          </a:ln>
        </p:spPr>
      </p:pic>
      <p:sp>
        <p:nvSpPr>
          <p:cNvPr id="379" name="矩形 4"/>
          <p:cNvSpPr/>
          <p:nvPr/>
        </p:nvSpPr>
        <p:spPr>
          <a:xfrm>
            <a:off x="2279520" y="200664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期刊论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集 ：国内外会议论文集（包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会议论文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文章：报刊上发表的文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1185840" y="3159000"/>
            <a:ext cx="9880560" cy="3067200"/>
          </a:xfrm>
          <a:prstGeom prst="rect">
            <a:avLst/>
          </a:prstGeom>
          <a:ln w="0">
            <a:noFill/>
          </a:ln>
        </p:spPr>
      </p:pic>
      <p:sp>
        <p:nvSpPr>
          <p:cNvPr id="381" name="矩形 4"/>
          <p:cNvSpPr/>
          <p:nvPr/>
        </p:nvSpPr>
        <p:spPr>
          <a:xfrm>
            <a:off x="1693800" y="1819440"/>
            <a:ext cx="8637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系统期刊库收录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,CSSCI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文核心期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CSCD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科技论文统计源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教师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必须按提示选择期刊名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，系统将匹配期刊源，如不选择将无法认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CI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论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前使用的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版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收录期刊目录（中科院大类分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上传佐证材料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科研成果的佐证材料电子版，以附件形式上传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：提供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页，以及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著作：封面，作者页等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368360" y="3857760"/>
            <a:ext cx="93045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93720" y="2212560"/>
            <a:ext cx="2216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基本信息页中只能填写第一作者，通迅作者和其他作者的添加、修改需在作者页中进行。方式有两种：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一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新增论文</a:t>
            </a:r>
            <a:r>
              <a:rPr b="1" lang="zh-CN" sz="2000" spc="-1" strike="noStrike">
                <a:solidFill>
                  <a:srgbClr val="ff3300"/>
                </a:solidFill>
                <a:latin typeface="Calibri"/>
              </a:rPr>
              <a:t>保存后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点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添加作者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3197160" y="2212920"/>
            <a:ext cx="85597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点击论文列表上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编辑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链接，随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击上方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论文作者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项卡，进入论文作者新增页面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1"/>
          <a:stretch/>
        </p:blipFill>
        <p:spPr>
          <a:xfrm>
            <a:off x="1284120" y="3857760"/>
            <a:ext cx="968400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8" descr=""/>
          <p:cNvPicPr/>
          <p:nvPr/>
        </p:nvPicPr>
        <p:blipFill>
          <a:blip r:embed="rId1"/>
          <a:stretch/>
        </p:blipFill>
        <p:spPr>
          <a:xfrm>
            <a:off x="1293840" y="120168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096920" y="2331720"/>
            <a:ext cx="10058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通过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收录情况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论文收录情况查看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系统自动匹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，目前使用的是中科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收录期刊目录（大类分区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289160" y="3922560"/>
            <a:ext cx="93884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4640" y="2241720"/>
            <a:ext cx="1886040" cy="40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针对上级用户审核的意见要在</a:t>
            </a:r>
            <a:r>
              <a:rPr b="0" lang="zh-CN" sz="2000" spc="-1" strike="noStrike">
                <a:solidFill>
                  <a:srgbClr val="0000ff"/>
                </a:solidFill>
                <a:latin typeface="Calibri"/>
              </a:rPr>
              <a:t>查看页面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查看，通过单击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论文题目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审核记录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审核记录窗口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2982960" y="184644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96920" y="2534760"/>
            <a:ext cx="10058400" cy="2855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其他科研成果的填报方式与论文填报相似，请根据不同选项分批填报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使用过程中有何疑问，可邮件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谢谢！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范围及流程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96920" y="2232000"/>
            <a:ext cx="100584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至今为止，尤其是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2010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年之后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所获得的科研成果，包括发表论文、研究报告、著作成果等；所参加学术活动，包括主办会议、参加会议、学术讲座等；所获得的成果奖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个人如实填报科研信息，根据系统要求完善个人科研内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院根据个人填报信息审核真实性、准确性和完整性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校在学院审核基础上进行复审，原则上以学院审核为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系统环境要求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36840" y="2736360"/>
            <a:ext cx="100296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推荐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浏览器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9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及以上版本浏览器需进行兼容性设置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系统不兼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60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搜狗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CHROM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等浏览器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38320" y="483840"/>
            <a:ext cx="757872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 Light"/>
              </a:rPr>
              <a:t>IE9  IE10</a:t>
            </a:r>
            <a:r>
              <a:rPr b="0" lang="zh-CN" sz="4300" spc="-1" strike="noStrike">
                <a:solidFill>
                  <a:srgbClr val="000000"/>
                </a:solidFill>
                <a:latin typeface="Calibri Light"/>
              </a:rPr>
              <a:t>浏览器兼容性视图设置</a:t>
            </a:r>
            <a:r>
              <a:rPr b="0" lang="zh-CN" sz="43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68240" y="2552760"/>
            <a:ext cx="3862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浏览器窗口菜单栏上点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工具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→选择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。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IE10-3"/>
          <p:cNvPicPr/>
          <p:nvPr/>
        </p:nvPicPr>
        <p:blipFill>
          <a:blip r:embed="rId1"/>
          <a:stretch/>
        </p:blipFill>
        <p:spPr>
          <a:xfrm>
            <a:off x="5419800" y="2552760"/>
            <a:ext cx="639900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07920" y="2438280"/>
            <a:ext cx="32083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兼容性视图设置页面中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网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shnu.edu.c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8" descr="IE10-4"/>
          <p:cNvPicPr/>
          <p:nvPr/>
        </p:nvPicPr>
        <p:blipFill>
          <a:blip r:embed="rId1"/>
          <a:stretch/>
        </p:blipFill>
        <p:spPr>
          <a:xfrm>
            <a:off x="5040360" y="2093760"/>
            <a:ext cx="610236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01640" y="2813040"/>
            <a:ext cx="37479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关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，完成兼容性视图的设置。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8" descr="IE10-5"/>
          <p:cNvPicPr/>
          <p:nvPr/>
        </p:nvPicPr>
        <p:blipFill>
          <a:blip r:embed="rId1"/>
          <a:stretch/>
        </p:blipFill>
        <p:spPr>
          <a:xfrm>
            <a:off x="4782960" y="2208240"/>
            <a:ext cx="621828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用户类别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4" name="内容占位符 3" descr=""/>
          <p:cNvPicPr/>
          <p:nvPr/>
        </p:nvPicPr>
        <p:blipFill>
          <a:blip r:embed="rId1"/>
          <a:stretch/>
        </p:blipFill>
        <p:spPr>
          <a:xfrm>
            <a:off x="2765520" y="1941480"/>
            <a:ext cx="6721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演示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52120" y="2026800"/>
            <a:ext cx="9137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网址直接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://kyglkj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学校主页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http://www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两种登录方式二选一即可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请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ter explorer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登录，并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E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兼容模式登录系统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00:32:26Z</dcterms:created>
  <dc:creator>sam meng</dc:creator>
  <dc:description/>
  <dc:language>en-US</dc:language>
  <cp:lastModifiedBy>keji</cp:lastModifiedBy>
  <dcterms:modified xsi:type="dcterms:W3CDTF">2015-05-08T00:55:53Z</dcterms:modified>
  <cp:revision>35</cp:revision>
  <dc:subject/>
  <dc:title>科研管理系统（理科） 使用指南</dc:title>
</cp:coreProperties>
</file>