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FCD9-C9C7-4B4C-9D7E-A91A0793EB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DFAB-E4CD-4FAC-B85D-01CB8F976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1EC-C123-43B3-BE06-D0DC8E16B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C31-FB69-4A2A-A3DD-047B15B50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21D-0E04-46F7-98D9-E22D9691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2FC-A910-4201-AE99-9F5DAB06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8EB-47B5-43C5-BA00-B00F2606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EBB-F2E7-4890-B66B-06E9D583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DDD-BD7E-406A-9231-CA1C37AF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09ED-E9EC-47F3-82B2-21E629C6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703-AF3A-4A65-AEDD-7389DDBD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9C67-B2E0-4A91-9EF9-66CC612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34F4-4B1F-44B1-8EFD-9132620E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6767-44E1-4A81-943A-F8CDE9E1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4923-8405-4CFD-99F9-71C58406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7EE-2481-4A77-B10A-4EEC99D9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C54-82C7-4501-9A20-EEACF01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4E96-738C-4541-9DCF-0D9443E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C472-1E6C-4B7A-99FC-9C52CB9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F7D-1CAA-4861-AD90-5CA7DB42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A880-9F61-4F0B-90F3-4880937A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6A86-68F1-4502-B392-F25A5ABD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F055-F6F7-4C28-91B1-0C0DB342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7D97-D550-4AF8-87F5-5C4EA4BB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30A3-D46A-4003-AD0F-7624276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F00A-D1FE-4061-8AC8-C55AAC0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C3F-0176-43AD-9C16-0D371A2E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AA3F-F5B7-475C-8275-0F3B2BA1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64EE-B3B3-4BF8-A659-16CC923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6ED0-0ECA-4E28-A8C1-6E3F35C0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7755-3FE6-41EF-BA64-39C2955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B9BA-F686-4649-B273-E713C54C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3777-B1DB-4CB8-9342-7B5D1670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B1AF-6C59-408D-B4D3-0AB0E63D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5BCA-F045-4E26-8BAF-DDC21A55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D62F-5C17-4480-8863-B47DDA55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CEBC-DE4D-47C3-8C09-5551F856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8D9-DCCE-40CD-A2A9-104D1D86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CBC8-2328-4212-951D-51796250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F20F-8FE7-4B9F-9D6B-246F6BC3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7DE0-26CC-442C-90EE-D102BA73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E6B9-16F1-418B-A323-8F68C0F9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3417-8185-4314-ADCF-74F02F49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A6E1-B4E9-4A08-A097-B469C1B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73CD-03CB-4497-B68C-AAF615B9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4B2D-76BA-42F6-B311-48D484B1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F31B-ACE0-46A1-A0A9-FCB18E92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83BE-413C-4D87-A46D-ED929229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F7E-4A1F-4A4E-B102-1D840758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5B4F-1F52-4B01-A2CA-F2F3991B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68A9-AD4B-4D31-9E93-79CD5CA6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87F46-BFDA-4F96-A2A5-33B5C03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97A3-F1A8-49D1-8346-E1BC5CC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D228-12AD-4FE7-AD3A-AF1C11F4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3FB60-BC57-4484-BE7B-8B2A517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31848-087F-459E-86ED-8E7FCFB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A8B3-C99C-4422-A12B-2199626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87E0-7772-487F-99BE-1C25300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AC1C-1F9C-47F7-82E7-DDA4E0A7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D07-D214-4406-AD09-75D21829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816D-FC0D-4565-8A91-8BB80ED8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9A09-72F4-4489-A37B-EEF49C84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7857-0FAF-4594-87F8-BE10ABB0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08F0-4E28-4D00-AFC4-EB5DB36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E1DBA-96E5-4950-92A3-57723CED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CD4B-5A95-40BD-B9AD-360ED75E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2B2B3-596A-4A82-B63F-242A8722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AD4F-5C98-44E7-9796-7A836FD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0F9A1-BC67-44DB-8E3C-8916467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45EF6-A574-48B6-A30C-BCB3586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8C1-2CC3-4F30-9D77-765872E8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3AE7-BFC3-4E1A-A862-EF7225D2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9E1B3-57EB-413A-BA74-3676693C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2D948-AD17-4B64-85BA-F18282C3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07B9-AE00-4CCE-8AC8-797C8B7C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ADD62-2C23-4146-A8AE-F7D5E4CF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668B1-6E92-49ED-A1BD-B252A464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69C9-F3EB-42BA-ACF6-EDE12370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31231-0A34-4398-B6E2-7F77161D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DF60-4823-41ED-A02C-BB300A0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2D814-6D6F-4383-9025-F3134A96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2B8-0CDE-4854-9FD7-4733505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0B52-30A0-44B8-B91D-792D35A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353F-E9ED-4E65-882A-A37415F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D1FE-1832-40CE-B973-D554294E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825E7-B19A-4087-9C60-0B2510B8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945B-9DA0-44D5-91C2-D4D59F04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138-76ED-4F41-8AD2-43465C76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BA2-3428-4A85-BE50-2D3945CBB99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F1C5-129E-4DF4-AE1F-3BE0EFB8CA2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53D9-4E8C-4F3D-870C-998252C5510E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898D-B17F-43A8-9C6A-6F87BA06F79E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9E2-DDD6-4D8D-8EC6-679A86F2C62B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7E2A-F789-4CB9-9FD6-7B8C80B2A84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6E6-C243-4FDA-827F-9AF8A0FAD4CB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nu.edu.cn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82,16,&#20363;&#65306;&#20010;&#20154;&#35748;&#39046;" TargetMode="External"/><Relationship Id="rId2" Type="http://schemas.openxmlformats.org/officeDocument/2006/relationships/hyperlink" Target="271,20,&#20363;&#65306;&#20010;&#20154;&#26032;&#22686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hyperlink" Target="http://www.shnu.edu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17287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上海师范大学科研管理系统（科技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使用指南</a:t>
            </a:r>
            <a:r>
              <a:rPr b="0" lang="en-US" sz="4400" spc="-1" strike="noStrike">
                <a:solidFill>
                  <a:srgbClr val="262626"/>
                </a:solidFill>
                <a:latin typeface="Calibri Light"/>
              </a:rPr>
              <a:t>1.0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3665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网址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://kyglkj.shnu.edu.cn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64520" y="2922480"/>
            <a:ext cx="2494080" cy="236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打开网址页面后点击“统一身份认证登录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图片 3" descr=""/>
          <p:cNvPicPr/>
          <p:nvPr/>
        </p:nvPicPr>
        <p:blipFill>
          <a:blip r:embed="rId2"/>
          <a:stretch/>
        </p:blipFill>
        <p:spPr>
          <a:xfrm>
            <a:off x="446040" y="1857240"/>
            <a:ext cx="7950240" cy="498960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5830920" y="4548240"/>
            <a:ext cx="1579680" cy="368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 flipV="1">
            <a:off x="7410600" y="3544920"/>
            <a:ext cx="1627200" cy="11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6040" y="876240"/>
            <a:ext cx="66308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学校主页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 http://www.shnu.edu.cn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04240" y="3646440"/>
            <a:ext cx="37526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打开学校主页后通过教师信息门户登录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图片 3" descr=""/>
          <p:cNvPicPr/>
          <p:nvPr/>
        </p:nvPicPr>
        <p:blipFill>
          <a:blip r:embed="rId2"/>
          <a:stretch/>
        </p:blipFill>
        <p:spPr>
          <a:xfrm>
            <a:off x="689040" y="1998720"/>
            <a:ext cx="6637320" cy="473076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6113520" y="2975040"/>
            <a:ext cx="1138320" cy="654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6"/>
          <p:cNvSpPr/>
          <p:nvPr/>
        </p:nvSpPr>
        <p:spPr>
          <a:xfrm>
            <a:off x="7242120" y="3301920"/>
            <a:ext cx="881280" cy="34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091200" y="2166480"/>
            <a:ext cx="2874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后在个人信息门户页面左下角“各类业务系统”中选择“科研管理系统（科技）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114480" y="2065320"/>
            <a:ext cx="5715000" cy="3753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"/>
          <p:cNvPicPr/>
          <p:nvPr/>
        </p:nvPicPr>
        <p:blipFill>
          <a:blip r:embed="rId2"/>
          <a:stretch/>
        </p:blipFill>
        <p:spPr>
          <a:xfrm>
            <a:off x="9344160" y="2405160"/>
            <a:ext cx="2266920" cy="296208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箭头连接符 6"/>
          <p:cNvCxnSpPr/>
          <p:nvPr/>
        </p:nvCxnSpPr>
        <p:spPr>
          <a:xfrm>
            <a:off x="5829480" y="3885840"/>
            <a:ext cx="33501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矩形 7"/>
          <p:cNvSpPr/>
          <p:nvPr/>
        </p:nvSpPr>
        <p:spPr>
          <a:xfrm>
            <a:off x="9344160" y="4572000"/>
            <a:ext cx="1438200" cy="214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587720" y="2327040"/>
            <a:ext cx="356724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系统后可查看系统通知公告、个人资料、个人科研信息等内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3" name="图片 3" descr=""/>
          <p:cNvPicPr/>
          <p:nvPr/>
        </p:nvPicPr>
        <p:blipFill>
          <a:blip r:embed="rId1"/>
          <a:stretch/>
        </p:blipFill>
        <p:spPr>
          <a:xfrm>
            <a:off x="474840" y="762120"/>
            <a:ext cx="6649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89240" y="2404800"/>
            <a:ext cx="708336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教师个人根据自己的科研情况，如实填报相关内容和信息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系统使用中存在的问题或意见可邮件至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5" name="图片 3" descr=""/>
          <p:cNvPicPr/>
          <p:nvPr/>
        </p:nvPicPr>
        <p:blipFill>
          <a:blip r:embed="rId1"/>
          <a:stretch/>
        </p:blipFill>
        <p:spPr>
          <a:xfrm>
            <a:off x="928800" y="1116000"/>
            <a:ext cx="1755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700360" y="2604600"/>
            <a:ext cx="5968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个人认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个人新增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1249200" y="297000"/>
            <a:ext cx="100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认领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电子菜单“科研成果”，随后选择子菜单“论文成果”，即出现如图所示页面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列表中会出现近年来教师个人的论文情况，点击“编辑”可对文章进行修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图片 2" descr=""/>
          <p:cNvPicPr/>
          <p:nvPr/>
        </p:nvPicPr>
        <p:blipFill>
          <a:blip r:embed="rId1"/>
          <a:stretch/>
        </p:blipFill>
        <p:spPr>
          <a:xfrm>
            <a:off x="0" y="3025800"/>
            <a:ext cx="12106440" cy="5686560"/>
          </a:xfrm>
          <a:prstGeom prst="rect">
            <a:avLst/>
          </a:prstGeom>
          <a:ln w="0">
            <a:noFill/>
          </a:ln>
        </p:spPr>
      </p:pic>
      <p:sp>
        <p:nvSpPr>
          <p:cNvPr id="361" name="矩形 3"/>
          <p:cNvSpPr/>
          <p:nvPr/>
        </p:nvSpPr>
        <p:spPr>
          <a:xfrm>
            <a:off x="10794960" y="4037040"/>
            <a:ext cx="509760" cy="3207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0" y="4759200"/>
            <a:ext cx="1096920" cy="478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内容占位符 2" descr=""/>
          <p:cNvPicPr/>
          <p:nvPr/>
        </p:nvPicPr>
        <p:blipFill>
          <a:blip r:embed="rId1"/>
          <a:stretch/>
        </p:blipFill>
        <p:spPr>
          <a:xfrm>
            <a:off x="4476600" y="2084400"/>
            <a:ext cx="7445520" cy="5337000"/>
          </a:xfrm>
          <a:prstGeom prst="rect">
            <a:avLst/>
          </a:prstGeom>
          <a:ln w="0">
            <a:noFill/>
          </a:ln>
        </p:spPr>
      </p:pic>
      <p:sp>
        <p:nvSpPr>
          <p:cNvPr id="365" name="矩形 4"/>
          <p:cNvSpPr/>
          <p:nvPr/>
        </p:nvSpPr>
        <p:spPr>
          <a:xfrm>
            <a:off x="8467560" y="3726000"/>
            <a:ext cx="3051360" cy="477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177840" y="1900080"/>
            <a:ext cx="40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随后教师根据实际情况对论文进行详细信息填写和修改，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需要注意的是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“发表刊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论文集”务必采用输入方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勿使用复制黏贴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，后与数据库中的刊物进行匹配选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系统导入时将历年获奖名单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奖金领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作为第一作者，但教师个人修改时应根据实际情况进行调整，可选择左上角“论文作者”标签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图片 6" descr=""/>
          <p:cNvPicPr/>
          <p:nvPr/>
        </p:nvPicPr>
        <p:blipFill>
          <a:blip r:embed="rId2"/>
          <a:stretch/>
        </p:blipFill>
        <p:spPr>
          <a:xfrm>
            <a:off x="281160" y="5030640"/>
            <a:ext cx="3981240" cy="2390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9"/>
          <p:cNvSpPr/>
          <p:nvPr/>
        </p:nvSpPr>
        <p:spPr>
          <a:xfrm>
            <a:off x="4390920" y="2166840"/>
            <a:ext cx="3052800" cy="47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4600440" y="3605040"/>
            <a:ext cx="3051360" cy="238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8"/>
          <p:cNvSpPr/>
          <p:nvPr/>
        </p:nvSpPr>
        <p:spPr>
          <a:xfrm>
            <a:off x="1319040" y="5030640"/>
            <a:ext cx="3051360" cy="25336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其他注意事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73000" y="2440080"/>
            <a:ext cx="84517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由于系统设置原因，认领的论文在导入时，如果标题过长，论文题目会出现“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…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”字符缺失情况，请个人在认领论文时将题目补充完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发表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/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出版时间”为系统根据年份所默认，请个人在认领论文时修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论文认领时，请将</a:t>
            </a:r>
            <a:r>
              <a:rPr b="1" lang="zh-CN" sz="2000" spc="-1" strike="noStrike">
                <a:solidFill>
                  <a:srgbClr val="404040"/>
                </a:solidFill>
                <a:latin typeface="Calibri"/>
              </a:rPr>
              <a:t>所有信息补充完整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方可保存，并送至审核。</a:t>
            </a:r>
            <a:r>
              <a:rPr b="0" lang="zh-CN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（操作步骤参照：个人新增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不在“论文成果”列表内的论文可通过“论文新增”方式添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数据导入过程中可能存在信息错误可自行修改调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新增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806400" y="3508200"/>
            <a:ext cx="10326600" cy="2675160"/>
          </a:xfrm>
          <a:prstGeom prst="rect">
            <a:avLst/>
          </a:prstGeom>
          <a:ln w="0">
            <a:noFill/>
          </a:ln>
        </p:spPr>
      </p:pic>
      <p:sp>
        <p:nvSpPr>
          <p:cNvPr id="375" name="矩形 4"/>
          <p:cNvSpPr/>
          <p:nvPr/>
        </p:nvSpPr>
        <p:spPr>
          <a:xfrm>
            <a:off x="1365120" y="2160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子菜单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科研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论文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入论文列表，通过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新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进入论文新增，填写论文信息页面，单击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，完成论文的新增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</a:rPr>
              <a:t>目录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26760" y="2440080"/>
            <a:ext cx="58611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一、系统填报范围及流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二、系统环境要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三、数据填报演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88760" y="2487240"/>
            <a:ext cx="20970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填写论文信息页面，单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，完成论文的新增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tretch/>
        </p:blipFill>
        <p:spPr>
          <a:xfrm>
            <a:off x="3308400" y="1622520"/>
            <a:ext cx="78469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"/>
          <p:cNvPicPr/>
          <p:nvPr/>
        </p:nvPicPr>
        <p:blipFill>
          <a:blip r:embed="rId1"/>
          <a:stretch/>
        </p:blipFill>
        <p:spPr>
          <a:xfrm>
            <a:off x="1096920" y="3222720"/>
            <a:ext cx="9861480" cy="2754360"/>
          </a:xfrm>
          <a:prstGeom prst="rect">
            <a:avLst/>
          </a:prstGeom>
          <a:ln w="0">
            <a:noFill/>
          </a:ln>
        </p:spPr>
      </p:pic>
      <p:sp>
        <p:nvSpPr>
          <p:cNvPr id="379" name="矩形 4"/>
          <p:cNvSpPr/>
          <p:nvPr/>
        </p:nvSpPr>
        <p:spPr>
          <a:xfrm>
            <a:off x="2279520" y="200664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期刊论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集 ：国内外会议论文集（包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会议论文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：报刊上发表的文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185840" y="3159000"/>
            <a:ext cx="9880560" cy="3067200"/>
          </a:xfrm>
          <a:prstGeom prst="rect">
            <a:avLst/>
          </a:prstGeom>
          <a:ln w="0">
            <a:noFill/>
          </a:ln>
        </p:spPr>
      </p:pic>
      <p:sp>
        <p:nvSpPr>
          <p:cNvPr id="381" name="矩形 4"/>
          <p:cNvSpPr/>
          <p:nvPr/>
        </p:nvSpPr>
        <p:spPr>
          <a:xfrm>
            <a:off x="1693800" y="1819440"/>
            <a:ext cx="8637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期刊库收录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,CSSCI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文核心期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CSCD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科技论文统计源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教师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必须按提示选择期刊名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，系统将匹配期刊源，如不选择将无法认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I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前使用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版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收录期刊目录（中科院大类分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上传佐证材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研成果的佐证材料电子版，以附件形式上传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：提供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页，以及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著作：封面，作者页等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368360" y="3857760"/>
            <a:ext cx="93045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93720" y="2212560"/>
            <a:ext cx="2216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基本信息页中只能填写第一作者，通迅作者和其他作者的添加、修改需在作者页中进行。方式有两种：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新增论文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保存后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点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添加作者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3197160" y="2212920"/>
            <a:ext cx="85597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点击论文列表上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编辑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链接，随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击上方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论文作者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项卡，进入论文作者新增页面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1284120" y="3857760"/>
            <a:ext cx="9684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8" descr=""/>
          <p:cNvPicPr/>
          <p:nvPr/>
        </p:nvPicPr>
        <p:blipFill>
          <a:blip r:embed="rId1"/>
          <a:stretch/>
        </p:blipFill>
        <p:spPr>
          <a:xfrm>
            <a:off x="1293840" y="1201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96920" y="2331720"/>
            <a:ext cx="10058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通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收录情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论文收录情况查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系统自动匹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，目前使用的是中科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收录期刊目录（大类分区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89160" y="3922560"/>
            <a:ext cx="9388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4640" y="2241720"/>
            <a:ext cx="188604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针对上级用户审核的意见要在</a:t>
            </a:r>
            <a:r>
              <a:rPr b="0" lang="zh-CN" sz="2000" spc="-1" strike="noStrike">
                <a:solidFill>
                  <a:srgbClr val="0000ff"/>
                </a:solidFill>
                <a:latin typeface="Calibri"/>
              </a:rPr>
              <a:t>查看页面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查看，通过单击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论文题目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审核记录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审核记录窗口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982960" y="184644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96920" y="2534760"/>
            <a:ext cx="1005840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其他科研成果的填报方式与论文填报相似，请根据不同选项分批填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使用过程中有何疑问，可邮件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谢谢！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范围及流程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96920" y="2232000"/>
            <a:ext cx="1005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至今为止，尤其是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2010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年之后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所获得的科研成果，包括发表论文、研究报告、著作成果等；所参加学术活动，包括主办会议、参加会议、学术讲座等；所获得的成果奖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个人如实填报科研信息，根据系统要求完善个人科研内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院根据个人填报信息审核真实性、准确性和完整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校在学院审核基础上进行复审，原则上以学院审核为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系统环境要求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36840" y="2736360"/>
            <a:ext cx="100296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推荐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浏览器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及以上版本浏览器需进行兼容性设置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系统不兼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0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搜狗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等浏览器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38320" y="483840"/>
            <a:ext cx="7578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 Light"/>
              </a:rPr>
              <a:t>IE9  IE10</a:t>
            </a:r>
            <a:r>
              <a:rPr b="0" lang="zh-CN" sz="4300" spc="-1" strike="noStrike">
                <a:solidFill>
                  <a:srgbClr val="000000"/>
                </a:solidFill>
                <a:latin typeface="Calibri Light"/>
              </a:rPr>
              <a:t>浏览器兼容性视图设置</a:t>
            </a:r>
            <a:r>
              <a:rPr b="0" lang="zh-CN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8240" y="2552760"/>
            <a:ext cx="386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窗口菜单栏上点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工具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→选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IE10-3"/>
          <p:cNvPicPr/>
          <p:nvPr/>
        </p:nvPicPr>
        <p:blipFill>
          <a:blip r:embed="rId1"/>
          <a:stretch/>
        </p:blipFill>
        <p:spPr>
          <a:xfrm>
            <a:off x="5419800" y="2552760"/>
            <a:ext cx="639900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920" y="2438280"/>
            <a:ext cx="32083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兼容性视图设置页面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网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shnu.edu.c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8" descr="IE10-4"/>
          <p:cNvPicPr/>
          <p:nvPr/>
        </p:nvPicPr>
        <p:blipFill>
          <a:blip r:embed="rId1"/>
          <a:stretch/>
        </p:blipFill>
        <p:spPr>
          <a:xfrm>
            <a:off x="5040360" y="2093760"/>
            <a:ext cx="610236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01640" y="2813040"/>
            <a:ext cx="37479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关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，完成兼容性视图的设置。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IE10-5"/>
          <p:cNvPicPr/>
          <p:nvPr/>
        </p:nvPicPr>
        <p:blipFill>
          <a:blip r:embed="rId1"/>
          <a:stretch/>
        </p:blipFill>
        <p:spPr>
          <a:xfrm>
            <a:off x="4782960" y="2208240"/>
            <a:ext cx="62182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用户类别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内容占位符 3" descr=""/>
          <p:cNvPicPr/>
          <p:nvPr/>
        </p:nvPicPr>
        <p:blipFill>
          <a:blip r:embed="rId1"/>
          <a:stretch/>
        </p:blipFill>
        <p:spPr>
          <a:xfrm>
            <a:off x="2765520" y="1941480"/>
            <a:ext cx="6721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演示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52120" y="2026800"/>
            <a:ext cx="913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网址直接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kyglkj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学校主页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www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两种登录方式二选一即可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请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er explorer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登录，并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E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兼容模式登录系统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0:32:26Z</dcterms:created>
  <dc:creator>sam meng</dc:creator>
  <dc:description/>
  <dc:language>en-US</dc:language>
  <cp:lastModifiedBy>keji</cp:lastModifiedBy>
  <dcterms:modified xsi:type="dcterms:W3CDTF">2015-05-08T00:55:53Z</dcterms:modified>
  <cp:revision>35</cp:revision>
  <dc:subject/>
  <dc:title>科研管理系统（理科） 使用指南</dc:title>
</cp:coreProperties>
</file>