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DE3D-9389-4A4F-898B-AAAE5D645AD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C37C-58B7-4558-A717-1D320360F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498D-71E4-4BC0-8049-D3AB1BCCE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274A-F1D4-4691-A11C-5284A727B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A14E-A1D3-474F-A00F-52D832DE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9EF-2CE4-4CF9-810C-CEB34546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1EE4-7A6B-458A-8712-DB163D2F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31D2-DA7E-4AB7-BF29-4C39FA48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D74E-6ED6-478C-8D1E-2F0A540F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6E06-E031-4383-BD8E-DDE058EA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0FE3-68AD-46A6-AA44-E81827BC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1A20-166F-496E-9B90-A5A38919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8768-F23E-410A-9BAE-4256F9BB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E12D-C620-41E3-8B79-0889CB5D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221F-2671-45B1-8CEB-586195C9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B9AC-C3DB-45CF-BF38-A9CC920F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B538-C8F8-4154-A726-EE37E95C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5EE7-31EE-4BD9-95F5-296CD8AC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58D8-5109-456F-916D-6C2950BF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BC5F-A326-4DA8-8A35-704B6FC7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89FC-6ED6-4635-99E3-21212D79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42E81-9310-4CFE-A124-1B8C21D3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F56BA-AA1A-4CFD-9ECE-71E7F41D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82456-65D4-4505-AE6E-C30A4AAD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85120-F29F-4DB8-B8F7-CDF6CA0B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7A605-B61A-4ACD-89D6-E1678C29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218-EEBB-4708-B9D4-2D3F6A4C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D3410-D8ED-4F2C-9CD8-8D4927BC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6E588-5F09-46F3-B1D6-C033849E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B11AD-1103-4047-8224-09F7295F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786A6-B910-4A73-8765-67C64226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4B446-7E44-40C6-A9DE-DBBC62E3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CDF76-422E-4C2C-8300-96341216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EA617-D5B0-4065-A479-15BC377F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3B831-252C-4C8E-AABB-EED16F0F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3E886-12AB-4049-9214-4A0C16D7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12684-48EF-4A36-BD07-38A50811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B765-0920-41B2-96D5-DE8B8B0F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1D27C-899F-488E-A302-46B7B9A3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8D341-0A30-4E88-85E2-66926B18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F4724-8FD3-4021-A176-A88CE7DF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C85C9-0230-406A-AA68-36BFC798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D8F13-D784-4F68-A175-2861ADA6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D9506-F3A5-40B4-A364-0B336B4D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19423-1DD5-4153-A4EA-3B3E5416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C8D35-657F-4497-BD79-CC1C5D65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6E277-7296-45FB-B205-ED573E2D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4F61D-D36A-448A-A7C9-EBA331F5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4E7-D569-481C-B7A3-1A8C4700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E77BD-262D-4925-BE12-1DF5AD41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0818E-3191-4FE6-97D7-F7572452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677FE-FCBC-4EAF-B532-0B9B7A3B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07651-02E4-4153-B01E-109336CA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EB4ED-2678-4700-903F-BA55F22B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42FF7-5C54-4CDF-948C-EE2A5D05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505AE-AC9E-4296-8584-5DCFD626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04AA6-32FE-4B4C-BA27-D8982B03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43F2C-4A52-42C7-87E2-196D4E2D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87813-00A0-4937-B2CE-493E7B55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34B3-21F5-4BBD-BC30-9B3F606D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7E2DE-534D-4924-9899-84AB165B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CB190-B2A1-4D4E-AEA6-8B353DE5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E1524-6F7D-43A3-9DC7-E05F6E98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DC65C-BEF5-4DA0-B664-CD8B2D4F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F5CA2-242E-4B6A-AC68-56750590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C8256-9FA4-416A-95D5-F329C616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95C4E-D862-4E17-B517-31F0E304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E95C0-0473-49CC-AFCB-C6A87D08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8E1A2-3429-4429-B4AD-17CD7A17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2F6D2-77D7-4E3E-8E04-ACA44B89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259-43D6-44D5-A68B-B1A34D2F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ACC4C-A9F1-4D6D-8A4A-DD70F2F5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D14EF-5612-40CC-9786-540CFFAD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0C9D6-D9C0-49EC-9BB5-DAFFCE34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FFF80-5C81-4EAC-ACD4-3801BAB2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45F1C-114E-47CE-9ED2-A1DAF8FE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E0A15-C552-448E-8824-57126B79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26AF6-DA19-4B26-A341-7B889C1E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BFF21-2A36-40C0-91DA-00923808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0801D-C9EA-4563-9DBB-72487C3E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7FD73-2307-4D65-98E4-B1922FC9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6C90-153B-407F-852E-042FB595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B8593-FDB1-4AED-8FB2-45A61A79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3A3BF-BB33-4350-8A20-8EBAE1C8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A56ED-F0FA-4E41-B66C-4D9EF116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770E0-BA17-4DAF-9BF3-686883A3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2905B-AFB1-43DA-B688-BF00889A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AFD-0D0F-4AB6-9869-9163C977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7034-FCC0-4D5F-8ED7-E171ECBD1B91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7E57-E4B4-4B2A-A0C6-0D224126D4AD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8ABF-422D-4560-8DDB-D9F1FD388BFB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6D72-CC22-4F9C-B4C9-AA11DAC2A91D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436B-DB98-49AA-82B0-7C605E618E38}" type="slidenum">
              <a:rPr b="0" lang="zh-CN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D751-6CFE-4A8E-AD14-23CA3C9FEC62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4BDC-172A-4462-B0CC-CA6541619014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kyglkj.shnu.edu.cn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hnu.edu.cn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282,16,&#20363;&#65306;&#20010;&#20154;&#35748;&#39046;" TargetMode="External"/><Relationship Id="rId2" Type="http://schemas.openxmlformats.org/officeDocument/2006/relationships/hyperlink" Target="271,20,&#20363;&#65306;&#20010;&#20154;&#26032;&#22686;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272,21,&#24187;&#28783;&#29255; 21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yglkj.shnu.edu.cn/" TargetMode="External"/><Relationship Id="rId2" Type="http://schemas.openxmlformats.org/officeDocument/2006/relationships/hyperlink" Target="http://www.shnu.edu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23880" y="172872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Calibri Light"/>
              </a:rPr>
              <a:t>上海师范大学科研管理系统（科技）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262626"/>
                </a:solidFill>
                <a:latin typeface="Calibri Light"/>
              </a:rPr>
              <a:t>使用指南</a:t>
            </a:r>
            <a:r>
              <a:rPr b="0" lang="en-US" sz="4400" spc="-1" strike="noStrike">
                <a:solidFill>
                  <a:srgbClr val="262626"/>
                </a:solidFill>
                <a:latin typeface="Calibri Light"/>
              </a:rPr>
              <a:t>1.0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1366560"/>
            <a:ext cx="10515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Calibri Light"/>
              </a:rPr>
              <a:t>网址登录：</a:t>
            </a:r>
            <a:r>
              <a:rPr b="0" lang="en-US" sz="2900" spc="-1" strike="noStrike" u="sng">
                <a:solidFill>
                  <a:srgbClr val="2998e3"/>
                </a:solidFill>
                <a:uFillTx/>
                <a:latin typeface="Calibri Light"/>
                <a:hlinkClick r:id="rId1"/>
              </a:rPr>
              <a:t>http://kyglkj.shnu.edu.cn</a:t>
            </a:r>
            <a:br>
              <a:rPr sz="2900"/>
            </a:br>
            <a:endParaRPr b="0" lang="en-US" sz="29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164520" y="2922480"/>
            <a:ext cx="2494080" cy="2368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打开网址页面后点击“统一身份认证登录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9" name="图片 3" descr=""/>
          <p:cNvPicPr/>
          <p:nvPr/>
        </p:nvPicPr>
        <p:blipFill>
          <a:blip r:embed="rId2"/>
          <a:stretch/>
        </p:blipFill>
        <p:spPr>
          <a:xfrm>
            <a:off x="446040" y="1857240"/>
            <a:ext cx="7950240" cy="4989600"/>
          </a:xfrm>
          <a:prstGeom prst="rect">
            <a:avLst/>
          </a:prstGeom>
          <a:ln w="0">
            <a:noFill/>
          </a:ln>
        </p:spPr>
      </p:pic>
      <p:sp>
        <p:nvSpPr>
          <p:cNvPr id="340" name="矩形 4"/>
          <p:cNvSpPr/>
          <p:nvPr/>
        </p:nvSpPr>
        <p:spPr>
          <a:xfrm>
            <a:off x="5830920" y="4548240"/>
            <a:ext cx="1579680" cy="368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直接连接符 6"/>
          <p:cNvSpPr/>
          <p:nvPr/>
        </p:nvSpPr>
        <p:spPr>
          <a:xfrm flipV="1">
            <a:off x="7410600" y="3544920"/>
            <a:ext cx="1627200" cy="1122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76040" y="876240"/>
            <a:ext cx="663084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404040"/>
                </a:solidFill>
                <a:latin typeface="Calibri Light"/>
              </a:rPr>
              <a:t>学校主页登录：</a:t>
            </a:r>
            <a:r>
              <a:rPr b="0" lang="en-US" sz="2900" spc="-1" strike="noStrike" u="sng">
                <a:solidFill>
                  <a:srgbClr val="2998e3"/>
                </a:solidFill>
                <a:uFillTx/>
                <a:latin typeface="Calibri Light"/>
                <a:hlinkClick r:id="rId1"/>
              </a:rPr>
              <a:t> http://www.shnu.edu.cn</a:t>
            </a:r>
            <a:endParaRPr b="0" lang="en-US" sz="29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004240" y="3646440"/>
            <a:ext cx="3752640" cy="1617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打开学校主页后通过教师信息门户登录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4" name="图片 3" descr=""/>
          <p:cNvPicPr/>
          <p:nvPr/>
        </p:nvPicPr>
        <p:blipFill>
          <a:blip r:embed="rId2"/>
          <a:stretch/>
        </p:blipFill>
        <p:spPr>
          <a:xfrm>
            <a:off x="689040" y="1998720"/>
            <a:ext cx="6637320" cy="4730760"/>
          </a:xfrm>
          <a:prstGeom prst="rect">
            <a:avLst/>
          </a:prstGeom>
          <a:ln w="0">
            <a:noFill/>
          </a:ln>
        </p:spPr>
      </p:pic>
      <p:sp>
        <p:nvSpPr>
          <p:cNvPr id="345" name="矩形 4"/>
          <p:cNvSpPr/>
          <p:nvPr/>
        </p:nvSpPr>
        <p:spPr>
          <a:xfrm>
            <a:off x="6113520" y="2975040"/>
            <a:ext cx="1138320" cy="6541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直接连接符 6"/>
          <p:cNvSpPr/>
          <p:nvPr/>
        </p:nvSpPr>
        <p:spPr>
          <a:xfrm>
            <a:off x="7242120" y="3301920"/>
            <a:ext cx="881280" cy="344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6091200" y="2166480"/>
            <a:ext cx="287496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登录后在个人信息门户页面左下角“各类业务系统”中选择“科研管理系统（科技）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8" name="图片 3" descr=""/>
          <p:cNvPicPr/>
          <p:nvPr/>
        </p:nvPicPr>
        <p:blipFill>
          <a:blip r:embed="rId1"/>
          <a:stretch/>
        </p:blipFill>
        <p:spPr>
          <a:xfrm>
            <a:off x="114480" y="2065320"/>
            <a:ext cx="5715000" cy="375300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4" descr=""/>
          <p:cNvPicPr/>
          <p:nvPr/>
        </p:nvPicPr>
        <p:blipFill>
          <a:blip r:embed="rId2"/>
          <a:stretch/>
        </p:blipFill>
        <p:spPr>
          <a:xfrm>
            <a:off x="9344160" y="2405160"/>
            <a:ext cx="2266920" cy="2962080"/>
          </a:xfrm>
          <a:prstGeom prst="rect">
            <a:avLst/>
          </a:prstGeom>
          <a:ln w="0">
            <a:noFill/>
          </a:ln>
        </p:spPr>
      </p:pic>
      <p:cxnSp>
        <p:nvCxnSpPr>
          <p:cNvPr id="350" name="直接箭头连接符 6"/>
          <p:cNvCxnSpPr/>
          <p:nvPr/>
        </p:nvCxnSpPr>
        <p:spPr>
          <a:xfrm>
            <a:off x="5829480" y="3885840"/>
            <a:ext cx="3350160" cy="1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1" name="矩形 7"/>
          <p:cNvSpPr/>
          <p:nvPr/>
        </p:nvSpPr>
        <p:spPr>
          <a:xfrm>
            <a:off x="9344160" y="4572000"/>
            <a:ext cx="1438200" cy="2142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7587720" y="2327040"/>
            <a:ext cx="3567240" cy="2957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登录系统后可查看系统通知公告、个人资料、个人科研信息等内容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3" name="图片 3" descr=""/>
          <p:cNvPicPr/>
          <p:nvPr/>
        </p:nvPicPr>
        <p:blipFill>
          <a:blip r:embed="rId1"/>
          <a:stretch/>
        </p:blipFill>
        <p:spPr>
          <a:xfrm>
            <a:off x="474840" y="762120"/>
            <a:ext cx="66499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189240" y="2404800"/>
            <a:ext cx="708336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教师个人根据自己的科研情况，如实填报相关内容和信息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系统使用中存在的问题或意见可邮件至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engsy@shnu.edu.c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5" name="图片 3" descr=""/>
          <p:cNvPicPr/>
          <p:nvPr/>
        </p:nvPicPr>
        <p:blipFill>
          <a:blip r:embed="rId1"/>
          <a:stretch/>
        </p:blipFill>
        <p:spPr>
          <a:xfrm>
            <a:off x="928800" y="1116000"/>
            <a:ext cx="175572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700360" y="2604600"/>
            <a:ext cx="5968800" cy="307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个人认领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2998e3"/>
                </a:solidFill>
                <a:uFillTx/>
                <a:latin typeface="Calibri"/>
                <a:hlinkClick r:id="rId2"/>
              </a:rPr>
              <a:t>个人新增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标题 1"/>
          <p:cNvSpPr/>
          <p:nvPr/>
        </p:nvSpPr>
        <p:spPr>
          <a:xfrm>
            <a:off x="1249200" y="297000"/>
            <a:ext cx="10058400" cy="14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例：个人认领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电子菜单“科研成果”，随后选择子菜单“论文成果”，即出现如图所示页面；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列表中会出现近年来教师个人的论文情况，点击“编辑”可对文章进行修改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60" name="图片 2" descr=""/>
          <p:cNvPicPr/>
          <p:nvPr/>
        </p:nvPicPr>
        <p:blipFill>
          <a:blip r:embed="rId1"/>
          <a:stretch/>
        </p:blipFill>
        <p:spPr>
          <a:xfrm>
            <a:off x="0" y="3025800"/>
            <a:ext cx="12106440" cy="5686560"/>
          </a:xfrm>
          <a:prstGeom prst="rect">
            <a:avLst/>
          </a:prstGeom>
          <a:ln w="0">
            <a:noFill/>
          </a:ln>
        </p:spPr>
      </p:pic>
      <p:sp>
        <p:nvSpPr>
          <p:cNvPr id="361" name="矩形 3"/>
          <p:cNvSpPr/>
          <p:nvPr/>
        </p:nvSpPr>
        <p:spPr>
          <a:xfrm>
            <a:off x="10794960" y="4037040"/>
            <a:ext cx="509760" cy="3207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矩形 5"/>
          <p:cNvSpPr/>
          <p:nvPr/>
        </p:nvSpPr>
        <p:spPr>
          <a:xfrm>
            <a:off x="0" y="4759200"/>
            <a:ext cx="1096920" cy="478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64" name="内容占位符 2" descr=""/>
          <p:cNvPicPr/>
          <p:nvPr/>
        </p:nvPicPr>
        <p:blipFill>
          <a:blip r:embed="rId1"/>
          <a:stretch/>
        </p:blipFill>
        <p:spPr>
          <a:xfrm>
            <a:off x="4476600" y="2084400"/>
            <a:ext cx="7445520" cy="5337000"/>
          </a:xfrm>
          <a:prstGeom prst="rect">
            <a:avLst/>
          </a:prstGeom>
          <a:ln w="0">
            <a:noFill/>
          </a:ln>
        </p:spPr>
      </p:pic>
      <p:sp>
        <p:nvSpPr>
          <p:cNvPr id="365" name="矩形 4"/>
          <p:cNvSpPr/>
          <p:nvPr/>
        </p:nvSpPr>
        <p:spPr>
          <a:xfrm>
            <a:off x="8467560" y="3726000"/>
            <a:ext cx="3051360" cy="477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177840" y="1900080"/>
            <a:ext cx="401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随后教师根据实际情况对论文进行详细信息填写和修改，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需要注意的是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、“发表刊物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论文集”务必采用输入方式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勿使用复制黏贴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，后与数据库中的刊物进行匹配选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、系统导入时将历年获奖名单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奖金领取者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作为第一作者，但教师个人修改时应根据实际情况进行调整，可选择左上角“论文作者”标签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图片 6" descr=""/>
          <p:cNvPicPr/>
          <p:nvPr/>
        </p:nvPicPr>
        <p:blipFill>
          <a:blip r:embed="rId2"/>
          <a:stretch/>
        </p:blipFill>
        <p:spPr>
          <a:xfrm>
            <a:off x="281160" y="5030640"/>
            <a:ext cx="3981240" cy="2390760"/>
          </a:xfrm>
          <a:prstGeom prst="rect">
            <a:avLst/>
          </a:prstGeom>
          <a:ln w="0">
            <a:noFill/>
          </a:ln>
        </p:spPr>
      </p:pic>
      <p:sp>
        <p:nvSpPr>
          <p:cNvPr id="368" name="矩形 9"/>
          <p:cNvSpPr/>
          <p:nvPr/>
        </p:nvSpPr>
        <p:spPr>
          <a:xfrm>
            <a:off x="4390920" y="2166840"/>
            <a:ext cx="3052800" cy="4795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矩形 10"/>
          <p:cNvSpPr/>
          <p:nvPr/>
        </p:nvSpPr>
        <p:spPr>
          <a:xfrm>
            <a:off x="4600440" y="3605040"/>
            <a:ext cx="3051360" cy="2383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矩形 8"/>
          <p:cNvSpPr/>
          <p:nvPr/>
        </p:nvSpPr>
        <p:spPr>
          <a:xfrm>
            <a:off x="1319040" y="5030640"/>
            <a:ext cx="3051360" cy="25336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其他注意事项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773000" y="2440080"/>
            <a:ext cx="8451720" cy="3687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由于系统设置原因，认领的论文在导入时，如果标题过长，论文题目会出现“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…</a:t>
            </a: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”字符缺失情况，请个人在认领论文时将题目补充完整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发表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/</a:t>
            </a: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出版时间”为系统根据年份所默认，请个人在认领论文时修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论文认领时，请将</a:t>
            </a:r>
            <a:r>
              <a:rPr b="1" lang="zh-CN" sz="2000" spc="-1" strike="noStrike">
                <a:solidFill>
                  <a:srgbClr val="404040"/>
                </a:solidFill>
                <a:latin typeface="Calibri"/>
              </a:rPr>
              <a:t>所有信息补充完整</a:t>
            </a: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方可保存，并送至审核。</a:t>
            </a:r>
            <a:r>
              <a:rPr b="0" lang="zh-CN" sz="20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（操作步骤参照：个人新增）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不在“论文成果”列表内的论文可通过“论文新增”方式添加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数据导入过程中可能存在信息错误可自行修改调整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例：个人新增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74" name="Picture 7" descr=""/>
          <p:cNvPicPr/>
          <p:nvPr/>
        </p:nvPicPr>
        <p:blipFill>
          <a:blip r:embed="rId1"/>
          <a:stretch/>
        </p:blipFill>
        <p:spPr>
          <a:xfrm>
            <a:off x="806400" y="3508200"/>
            <a:ext cx="10326600" cy="2675160"/>
          </a:xfrm>
          <a:prstGeom prst="rect">
            <a:avLst/>
          </a:prstGeom>
          <a:ln w="0">
            <a:noFill/>
          </a:ln>
        </p:spPr>
      </p:pic>
      <p:sp>
        <p:nvSpPr>
          <p:cNvPr id="375" name="矩形 4"/>
          <p:cNvSpPr/>
          <p:nvPr/>
        </p:nvSpPr>
        <p:spPr>
          <a:xfrm>
            <a:off x="1365120" y="21607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子菜单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[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科研成果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[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论文成果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进入论文列表，通过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新增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按钮进入论文新增，填写论文信息页面，单击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保存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按钮，完成论文的新增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bri Light"/>
              </a:rPr>
              <a:t>目录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426760" y="2440080"/>
            <a:ext cx="58611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一、系统填报范围及流程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二、系统环境要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三、数据填报演示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788760" y="2487240"/>
            <a:ext cx="2097000" cy="290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填写论文信息页面，单击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保存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按钮，完成论文的新增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1"/>
          <a:stretch/>
        </p:blipFill>
        <p:spPr>
          <a:xfrm>
            <a:off x="3308400" y="1622520"/>
            <a:ext cx="784692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9" descr=""/>
          <p:cNvPicPr/>
          <p:nvPr/>
        </p:nvPicPr>
        <p:blipFill>
          <a:blip r:embed="rId1"/>
          <a:stretch/>
        </p:blipFill>
        <p:spPr>
          <a:xfrm>
            <a:off x="1096920" y="3222720"/>
            <a:ext cx="9861480" cy="2754360"/>
          </a:xfrm>
          <a:prstGeom prst="rect">
            <a:avLst/>
          </a:prstGeom>
          <a:ln w="0">
            <a:noFill/>
          </a:ln>
        </p:spPr>
      </p:pic>
      <p:sp>
        <p:nvSpPr>
          <p:cNvPr id="379" name="矩形 4"/>
          <p:cNvSpPr/>
          <p:nvPr/>
        </p:nvSpPr>
        <p:spPr>
          <a:xfrm>
            <a:off x="2279520" y="200664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期刊论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论文集 ：国内外会议论文集（包括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I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会议论文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文章：报刊上发表的文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"/>
          <p:cNvPicPr/>
          <p:nvPr/>
        </p:nvPicPr>
        <p:blipFill>
          <a:blip r:embed="rId1"/>
          <a:stretch/>
        </p:blipFill>
        <p:spPr>
          <a:xfrm>
            <a:off x="1185840" y="3159000"/>
            <a:ext cx="9880560" cy="3067200"/>
          </a:xfrm>
          <a:prstGeom prst="rect">
            <a:avLst/>
          </a:prstGeom>
          <a:ln w="0">
            <a:noFill/>
          </a:ln>
        </p:spPr>
      </p:pic>
      <p:sp>
        <p:nvSpPr>
          <p:cNvPr id="381" name="矩形 4"/>
          <p:cNvSpPr/>
          <p:nvPr/>
        </p:nvSpPr>
        <p:spPr>
          <a:xfrm>
            <a:off x="1693800" y="1819440"/>
            <a:ext cx="8637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系统期刊库收录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IE,CSSCI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文核心期刊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CSCD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科技论文统计源，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教师</a:t>
            </a:r>
            <a:r>
              <a:rPr b="1" lang="zh-CN" sz="1800" spc="-1" strike="noStrike" u="sng">
                <a:solidFill>
                  <a:srgbClr val="0000ff"/>
                </a:solidFill>
                <a:uFillTx/>
                <a:latin typeface="Calibri"/>
              </a:rPr>
              <a:t>必须按提示选择期刊名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，系统将匹配期刊源，如不选择将无法认定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CI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I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论文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目前使用的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版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I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收录期刊目录（中科院大类分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上传佐证材料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科研成果的佐证材料电子版，以附件形式上传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论文：提供第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页，以及与系统字段相关的内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著作：封面，作者页等与系统字段相关的内容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1"/>
          <a:stretch/>
        </p:blipFill>
        <p:spPr>
          <a:xfrm>
            <a:off x="1368360" y="3857760"/>
            <a:ext cx="930456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693720" y="2212560"/>
            <a:ext cx="2216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在基本信息页中只能填写第一作者，通迅作者和其他作者的添加、修改需在作者页中进行。方式有两种：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方式一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新增论文</a:t>
            </a:r>
            <a:r>
              <a:rPr b="1" lang="zh-CN" sz="2000" spc="-1" strike="noStrike">
                <a:solidFill>
                  <a:srgbClr val="ff3300"/>
                </a:solidFill>
                <a:latin typeface="Calibri"/>
              </a:rPr>
              <a:t>保存后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点击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添加作者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3197160" y="2212920"/>
            <a:ext cx="855972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方式二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点击论文列表上的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编辑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链接，随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点击上方</a:t>
            </a: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论文作者</a:t>
            </a: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选项卡，进入论文作者新增页面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7" name="Picture 9" descr=""/>
          <p:cNvPicPr/>
          <p:nvPr/>
        </p:nvPicPr>
        <p:blipFill>
          <a:blip r:embed="rId1"/>
          <a:stretch/>
        </p:blipFill>
        <p:spPr>
          <a:xfrm>
            <a:off x="1284120" y="3857760"/>
            <a:ext cx="968400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8" descr=""/>
          <p:cNvPicPr/>
          <p:nvPr/>
        </p:nvPicPr>
        <p:blipFill>
          <a:blip r:embed="rId1"/>
          <a:stretch/>
        </p:blipFill>
        <p:spPr>
          <a:xfrm>
            <a:off x="1293840" y="1201680"/>
            <a:ext cx="8458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096920" y="2331720"/>
            <a:ext cx="10058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通过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收录情况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按钮进入论文收录情况查看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系统自动匹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I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论文，目前使用的是中科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I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收录期刊目录（大类分区）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90" name="Picture 5" descr=""/>
          <p:cNvPicPr/>
          <p:nvPr/>
        </p:nvPicPr>
        <p:blipFill>
          <a:blip r:embed="rId1"/>
          <a:stretch/>
        </p:blipFill>
        <p:spPr>
          <a:xfrm>
            <a:off x="1289160" y="3922560"/>
            <a:ext cx="938844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764640" y="2241720"/>
            <a:ext cx="1886040" cy="4024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针对上级用户审核的意见要在</a:t>
            </a:r>
            <a:r>
              <a:rPr b="0" lang="zh-CN" sz="2000" spc="-1" strike="noStrike">
                <a:solidFill>
                  <a:srgbClr val="0000ff"/>
                </a:solidFill>
                <a:latin typeface="Calibri"/>
              </a:rPr>
              <a:t>查看页面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中查看，通过单击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[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论文题目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1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[</a:t>
            </a: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审核记录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]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按钮进入审核记录窗口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92" name="Picture 6" descr=""/>
          <p:cNvPicPr/>
          <p:nvPr/>
        </p:nvPicPr>
        <p:blipFill>
          <a:blip r:embed="rId1"/>
          <a:stretch/>
        </p:blipFill>
        <p:spPr>
          <a:xfrm>
            <a:off x="2982960" y="1846440"/>
            <a:ext cx="8686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096920" y="2534760"/>
            <a:ext cx="10058400" cy="2855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 marL="82080" indent="-8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其他科研成果的填报方式与论文填报相似，请根据不同选项分批填报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使用过程中有何疑问，可邮件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engsy@shnu.edu.c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82080" indent="-8208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"/>
              </a:rPr>
              <a:t>谢谢！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填报范围及流程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96920" y="2232000"/>
            <a:ext cx="1005840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、</a:t>
            </a: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至今为止，尤其是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2010</a:t>
            </a: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年之后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所获得的科研成果，包括发表论文、研究报告、著作成果等；所参加学术活动，包括主办会议、参加会议、学术讲座等；所获得的成果奖项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、个人如实填报科研信息，根据系统要求完善个人科研内容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、学院根据个人填报信息审核真实性、准确性和完整性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、学校在学院审核基础上进行复审，原则上以学院审核为主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系统环境要求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536840" y="2736360"/>
            <a:ext cx="1002960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推荐使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E8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浏览器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E9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及以上版本浏览器需进行兼容性设置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系统不兼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60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搜狗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GLE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CHROME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等浏览器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38320" y="483840"/>
            <a:ext cx="757872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 Light"/>
              </a:rPr>
              <a:t>IE9  IE10</a:t>
            </a:r>
            <a:r>
              <a:rPr b="0" lang="zh-CN" sz="4300" spc="-1" strike="noStrike">
                <a:solidFill>
                  <a:srgbClr val="000000"/>
                </a:solidFill>
                <a:latin typeface="Calibri Light"/>
              </a:rPr>
              <a:t>浏览器兼容性视图设置</a:t>
            </a:r>
            <a:r>
              <a:rPr b="0" lang="zh-CN" sz="4300" spc="-1" strike="noStrike">
                <a:solidFill>
                  <a:srgbClr val="404040"/>
                </a:solidFill>
                <a:latin typeface="Calibri Light"/>
              </a:rPr>
              <a:t> 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43828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438280" y="1752480"/>
            <a:ext cx="7925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2590920" y="1905120"/>
            <a:ext cx="7924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768240" y="2552760"/>
            <a:ext cx="3862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浏览器窗口菜单栏上点击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工具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→选择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兼容性视图设置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弹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兼容性视图设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页面。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8" descr="IE10-3"/>
          <p:cNvPicPr/>
          <p:nvPr/>
        </p:nvPicPr>
        <p:blipFill>
          <a:blip r:embed="rId1"/>
          <a:stretch/>
        </p:blipFill>
        <p:spPr>
          <a:xfrm>
            <a:off x="5419800" y="2552760"/>
            <a:ext cx="6399000" cy="34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2438280" y="1752480"/>
            <a:ext cx="7925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2590920" y="1905120"/>
            <a:ext cx="7924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907920" y="2438280"/>
            <a:ext cx="32083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兼容性视图设置页面中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添加网址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shnu.edu.c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8" descr="IE10-4"/>
          <p:cNvPicPr/>
          <p:nvPr/>
        </p:nvPicPr>
        <p:blipFill>
          <a:blip r:embed="rId1"/>
          <a:stretch/>
        </p:blipFill>
        <p:spPr>
          <a:xfrm>
            <a:off x="5040360" y="2093760"/>
            <a:ext cx="6102360" cy="35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43828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2438280" y="1752480"/>
            <a:ext cx="7925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2590920" y="1905120"/>
            <a:ext cx="7924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d582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701640" y="2813040"/>
            <a:ext cx="374796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添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关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钮，完成兼容性视图的设置。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8" descr="IE10-5"/>
          <p:cNvPicPr/>
          <p:nvPr/>
        </p:nvPicPr>
        <p:blipFill>
          <a:blip r:embed="rId1"/>
          <a:stretch/>
        </p:blipFill>
        <p:spPr>
          <a:xfrm>
            <a:off x="4782960" y="2208240"/>
            <a:ext cx="621828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用户类别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4" name="内容占位符 3" descr=""/>
          <p:cNvPicPr/>
          <p:nvPr/>
        </p:nvPicPr>
        <p:blipFill>
          <a:blip r:embed="rId1"/>
          <a:stretch/>
        </p:blipFill>
        <p:spPr>
          <a:xfrm>
            <a:off x="2765520" y="1941480"/>
            <a:ext cx="67215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Calibri Light"/>
              </a:rPr>
              <a:t>填报演示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752120" y="2026800"/>
            <a:ext cx="9137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网址直接登录：</a:t>
            </a:r>
            <a:r>
              <a:rPr b="0" lang="en-US" sz="20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http://kyglkj.shnu.edu.c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学校主页登录：</a:t>
            </a:r>
            <a:r>
              <a:rPr b="0" lang="en-US" sz="2000" spc="-1" strike="noStrike" u="sng">
                <a:solidFill>
                  <a:srgbClr val="2998e3"/>
                </a:solidFill>
                <a:uFillTx/>
                <a:latin typeface="Calibri"/>
                <a:hlinkClick r:id="rId2"/>
              </a:rPr>
              <a:t>http://www.shnu.edu.c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两种登录方式二选一即可；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请使用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nter explorer</a:t>
            </a: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浏览器登录，并使用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E</a:t>
            </a: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浏览器兼容模式登录系统。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00:32:26Z</dcterms:created>
  <dc:creator>sam meng</dc:creator>
  <dc:description/>
  <dc:language>en-US</dc:language>
  <cp:lastModifiedBy>keji</cp:lastModifiedBy>
  <dcterms:modified xsi:type="dcterms:W3CDTF">2015-05-08T00:55:53Z</dcterms:modified>
  <cp:revision>35</cp:revision>
  <dc:subject/>
  <dc:title>科研管理系统（理科） 使用指南</dc:title>
</cp:coreProperties>
</file>